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media/image13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068164-6912-4198-94CF-0EE50CF4826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2DD37F-2A98-49AB-87A7-8C4085970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0917E3-A525-4791-816A-40A78CF00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BD157F-E848-4948-A2B4-57F64D0C925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79A2E0-B95A-4DCB-885E-ACBB3F794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FAFBD6-F818-4AD4-B053-A3C53D536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59CED8-E71D-430E-B533-0E62335B1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FC8CF7-00C0-498B-9C0C-50BA5B59A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E8EE62-59CE-4EEB-9713-9EAFDE7D6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B58251-C805-48FE-90E1-EA97D4DFE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4CBB61-2D73-4EC9-B8B1-51D0AED6A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6F093D-1D47-40CA-81C6-17D85ACD2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03C81-1828-4A5F-AEF3-9116D4B62EF0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二章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院前急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8ac8de"/>
                </a:solidFill>
                <a:latin typeface="黑体"/>
                <a:ea typeface="黑体"/>
              </a:rPr>
              <a:t>第二章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护理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i="1" lang="zh-CN" sz="3200" spc="-1" strike="noStrike">
                <a:solidFill>
                  <a:srgbClr val="009900"/>
                </a:solidFill>
                <a:latin typeface="Verdana"/>
                <a:ea typeface="宋体"/>
              </a:rPr>
              <a:t>环境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71640" y="1701720"/>
            <a:ext cx="7943760" cy="454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2411640" y="4294440"/>
            <a:ext cx="5630760" cy="1799640"/>
            <a:chOff x="2411640" y="4294440"/>
            <a:chExt cx="5630760" cy="1799640"/>
          </a:xfrm>
        </p:grpSpPr>
        <p:sp>
          <p:nvSpPr>
            <p:cNvPr id="168" name=""/>
            <p:cNvSpPr/>
            <p:nvPr/>
          </p:nvSpPr>
          <p:spPr>
            <a:xfrm rot="10800000">
              <a:off x="2411640" y="4294440"/>
              <a:ext cx="5630760" cy="1799640"/>
            </a:xfrm>
            <a:prstGeom prst="wedgeRectCallout">
              <a:avLst>
                <a:gd name="adj1" fmla="val 40907"/>
                <a:gd name="adj2" fmla="val 111250"/>
              </a:avLst>
            </a:prstGeom>
            <a:noFill/>
            <a:ln w="38160">
              <a:solidFill>
                <a:srgbClr val="99669b"/>
              </a:solidFill>
              <a:miter/>
            </a:ln>
            <a:effectLst>
              <a:outerShdw dist="63504" dir="3183908" blurRad="0" rotWithShape="0">
                <a:srgbClr val="ddddd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10800000">
              <a:off x="2411640" y="4512240"/>
              <a:ext cx="5426280" cy="12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2627280" y="4508640"/>
            <a:ext cx="505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现场的安全、引起的原因、受伤人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自身、患者及旁观者是否身处险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伤病员是否仍有生命危险存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护理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i="1" lang="zh-CN" sz="3200" spc="-1" strike="noStrike">
                <a:solidFill>
                  <a:srgbClr val="009900"/>
                </a:solidFill>
                <a:latin typeface="Verdana"/>
                <a:ea typeface="宋体"/>
              </a:rPr>
              <a:t>病情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4920" y="1773000"/>
            <a:ext cx="8610480" cy="44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判断伤者多少、伤势轻重、救护能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按轻、重、缓、急初步检查与判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般状况观察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3" name="AutoShape 7"/>
          <p:cNvSpPr/>
          <p:nvPr/>
        </p:nvSpPr>
        <p:spPr>
          <a:xfrm>
            <a:off x="5292720" y="2924280"/>
            <a:ext cx="3456000" cy="3384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3383" y="3992"/>
                </a:moveTo>
                <a:lnTo>
                  <a:pt x="-476" y="729"/>
                </a:lnTo>
              </a:path>
              <a:path w="21600" h="21600">
                <a:moveTo>
                  <a:pt x="-476" y="0"/>
                </a:moveTo>
                <a:lnTo>
                  <a:pt x="-476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观察患者头颈部、躯干部及四肢活动情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检查有无外伤及功能障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倾听患者或目击者的主诉及与发病或创伤有关的细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判断是否与患者主诉相符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0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护理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i="1" lang="zh-CN" sz="3200" spc="-1" strike="noStrike">
                <a:solidFill>
                  <a:srgbClr val="009900"/>
                </a:solidFill>
                <a:latin typeface="Verdana"/>
                <a:ea typeface="宋体"/>
              </a:rPr>
              <a:t>检伤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40040"/>
            <a:ext cx="7238880" cy="3962160"/>
          </a:xfrm>
          <a:prstGeom prst="roundRect">
            <a:avLst>
              <a:gd name="adj" fmla="val 10375"/>
            </a:avLst>
          </a:prstGeom>
          <a:noFill/>
          <a:ln cap="rnd" w="190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828720" y="2494080"/>
            <a:ext cx="2303280" cy="503280"/>
          </a:xfrm>
          <a:prstGeom prst="roundRect">
            <a:avLst>
              <a:gd name="adj" fmla="val 7574"/>
            </a:avLst>
          </a:prstGeom>
          <a:gradFill rotWithShape="0">
            <a:gsLst>
              <a:gs pos="0">
                <a:srgbClr val="8ac8de"/>
              </a:gs>
              <a:gs pos="50000">
                <a:srgbClr val="a9d6e6"/>
              </a:gs>
              <a:gs pos="100000">
                <a:srgbClr val="8ac8de"/>
              </a:gs>
            </a:gsLst>
            <a:lin ang="13500000"/>
          </a:gradFill>
          <a:ln cap="rnd" w="2844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现有技术力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205080" y="2354400"/>
            <a:ext cx="4176720" cy="573120"/>
          </a:xfrm>
          <a:prstGeom prst="roundRect">
            <a:avLst>
              <a:gd name="adj" fmla="val 7574"/>
            </a:avLst>
          </a:prstGeom>
          <a:gradFill rotWithShape="0">
            <a:gsLst>
              <a:gs pos="0">
                <a:srgbClr val="d4e9f9"/>
              </a:gs>
              <a:gs pos="100000">
                <a:srgbClr val="97ccf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能否满足所有受伤患者的救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828720" y="3141720"/>
            <a:ext cx="2303280" cy="554040"/>
          </a:xfrm>
          <a:prstGeom prst="roundRect">
            <a:avLst>
              <a:gd name="adj" fmla="val 7574"/>
            </a:avLst>
          </a:prstGeom>
          <a:gradFill rotWithShape="0">
            <a:gsLst>
              <a:gs pos="0">
                <a:srgbClr val="99669b"/>
              </a:gs>
              <a:gs pos="50000">
                <a:srgbClr val="b48fb5"/>
              </a:gs>
              <a:gs pos="100000">
                <a:srgbClr val="99669b"/>
              </a:gs>
            </a:gsLst>
            <a:lin ang="13500000"/>
          </a:gradFill>
          <a:ln cap="rnd" w="2844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现有急救物资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276720" y="2998800"/>
            <a:ext cx="4103640" cy="503280"/>
          </a:xfrm>
          <a:prstGeom prst="roundRect">
            <a:avLst>
              <a:gd name="adj" fmla="val 7574"/>
            </a:avLst>
          </a:prstGeom>
          <a:gradFill rotWithShape="0">
            <a:gsLst>
              <a:gs pos="0">
                <a:srgbClr val="d5c1d6"/>
              </a:gs>
              <a:gs pos="100000">
                <a:srgbClr val="99669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能否满足所有受伤患者的供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28720" y="3789360"/>
            <a:ext cx="2303280" cy="504720"/>
          </a:xfrm>
          <a:prstGeom prst="roundRect">
            <a:avLst>
              <a:gd name="adj" fmla="val 7574"/>
            </a:avLst>
          </a:prstGeom>
          <a:gradFill rotWithShape="0">
            <a:gsLst>
              <a:gs pos="0">
                <a:srgbClr val="8ac8de"/>
              </a:gs>
              <a:gs pos="50000">
                <a:srgbClr val="a9d6e6"/>
              </a:gs>
              <a:gs pos="100000">
                <a:srgbClr val="8ac8de"/>
              </a:gs>
            </a:gsLst>
            <a:lin ang="13500000"/>
          </a:gradFill>
          <a:ln cap="rnd" w="2844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轻重伤的区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76720" y="3646440"/>
            <a:ext cx="4103640" cy="528840"/>
          </a:xfrm>
          <a:prstGeom prst="roundRect">
            <a:avLst>
              <a:gd name="adj" fmla="val 7574"/>
            </a:avLst>
          </a:prstGeom>
          <a:gradFill rotWithShape="0">
            <a:gsLst>
              <a:gs pos="0">
                <a:srgbClr val="d4e9f9"/>
              </a:gs>
              <a:gs pos="100000">
                <a:srgbClr val="97ccf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是否符合有效存活率的要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828720" y="4438800"/>
            <a:ext cx="2303280" cy="428400"/>
          </a:xfrm>
          <a:prstGeom prst="roundRect">
            <a:avLst>
              <a:gd name="adj" fmla="val 7574"/>
            </a:avLst>
          </a:prstGeom>
          <a:gradFill rotWithShape="0">
            <a:gsLst>
              <a:gs pos="0">
                <a:srgbClr val="99669b"/>
              </a:gs>
              <a:gs pos="50000">
                <a:srgbClr val="b48fb5"/>
              </a:gs>
              <a:gs pos="100000">
                <a:srgbClr val="99669b"/>
              </a:gs>
            </a:gsLst>
            <a:lin ang="13500000"/>
          </a:gradFill>
          <a:ln cap="rnd" w="2844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轻重伤的转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3640" y="4292640"/>
            <a:ext cx="4176720" cy="504720"/>
          </a:xfrm>
          <a:prstGeom prst="roundRect">
            <a:avLst>
              <a:gd name="adj" fmla="val 7574"/>
            </a:avLst>
          </a:prstGeom>
          <a:gradFill rotWithShape="0">
            <a:gsLst>
              <a:gs pos="0">
                <a:srgbClr val="d5c1d6"/>
              </a:gs>
              <a:gs pos="100000">
                <a:srgbClr val="99669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是否符合就地就近的抢救原则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86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90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94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98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护理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i="1" lang="zh-CN" sz="3200" spc="-1" strike="noStrike">
                <a:solidFill>
                  <a:srgbClr val="009900"/>
                </a:solidFill>
                <a:latin typeface="Verdana"/>
                <a:ea typeface="宋体"/>
              </a:rPr>
              <a:t>检伤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2268360" y="1413000"/>
            <a:ext cx="4495680" cy="4514400"/>
            <a:chOff x="2268360" y="1413000"/>
            <a:chExt cx="4495680" cy="4514400"/>
          </a:xfrm>
        </p:grpSpPr>
        <p:sp>
          <p:nvSpPr>
            <p:cNvPr id="186" name="Puzzle3"/>
            <p:cNvSpPr/>
            <p:nvPr/>
          </p:nvSpPr>
          <p:spPr>
            <a:xfrm>
              <a:off x="4457520" y="1413000"/>
              <a:ext cx="1767240" cy="2399040"/>
            </a:xfrm>
            <a:prstGeom prst="pie">
              <a:avLst/>
            </a:prstGeom>
            <a:solidFill>
              <a:srgbClr val="fe230c"/>
            </a:solidFill>
            <a:ln w="57240">
              <a:solidFill>
                <a:srgbClr val="ffffff"/>
              </a:solidFill>
              <a:miter/>
            </a:ln>
            <a:effectLst>
              <a:outerShdw dist="134955" dir="247288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7" name="Puzzle2"/>
            <p:cNvSpPr/>
            <p:nvPr/>
          </p:nvSpPr>
          <p:spPr>
            <a:xfrm>
              <a:off x="3943800" y="3160800"/>
              <a:ext cx="2820240" cy="2185200"/>
            </a:xfrm>
            <a:prstGeom prst="pi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fee273"/>
                </a:gs>
              </a:gsLst>
              <a:lin ang="5400000"/>
            </a:gradFill>
            <a:ln w="57240">
              <a:solidFill>
                <a:srgbClr val="ffffff"/>
              </a:solidFill>
              <a:miter/>
            </a:ln>
            <a:effectLst>
              <a:outerShdw dist="134955" dir="247288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8" name="Puzzle4"/>
            <p:cNvSpPr/>
            <p:nvPr/>
          </p:nvSpPr>
          <p:spPr>
            <a:xfrm>
              <a:off x="2851920" y="3133800"/>
              <a:ext cx="1700280" cy="2793600"/>
            </a:xfrm>
            <a:prstGeom prst="pie">
              <a:avLst/>
            </a:prstGeom>
            <a:gradFill rotWithShape="0">
              <a:gsLst>
                <a:gs pos="0">
                  <a:srgbClr val="8bd49b"/>
                </a:gs>
                <a:gs pos="100000">
                  <a:srgbClr val="20ae3e"/>
                </a:gs>
              </a:gsLst>
              <a:lin ang="8100000"/>
            </a:gradFill>
            <a:ln w="57240">
              <a:solidFill>
                <a:srgbClr val="ffffff"/>
              </a:solidFill>
              <a:miter/>
            </a:ln>
            <a:effectLst>
              <a:outerShdw dist="134955" dir="247288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9" name="Puzzle1"/>
            <p:cNvSpPr/>
            <p:nvPr/>
          </p:nvSpPr>
          <p:spPr>
            <a:xfrm>
              <a:off x="2268360" y="2138760"/>
              <a:ext cx="2855520" cy="166500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454545"/>
                </a:gs>
              </a:gsLst>
              <a:lin ang="5400000"/>
            </a:gradFill>
            <a:ln w="57240">
              <a:solidFill>
                <a:srgbClr val="ffffff"/>
              </a:solidFill>
              <a:miter/>
            </a:ln>
            <a:effectLst>
              <a:outerShdw dist="134955" dir="247288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7093080" y="1773360"/>
            <a:ext cx="1873080" cy="503280"/>
          </a:xfrm>
          <a:prstGeom prst="wedgeRectCallout">
            <a:avLst>
              <a:gd name="adj1" fmla="val -87773"/>
              <a:gd name="adj2" fmla="val 106083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危重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164360" y="5661000"/>
            <a:ext cx="1873440" cy="504720"/>
          </a:xfrm>
          <a:prstGeom prst="wedgeRectCallout">
            <a:avLst>
              <a:gd name="adj1" fmla="val -87060"/>
              <a:gd name="adj2" fmla="val -156671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中重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79280" y="1701720"/>
            <a:ext cx="1873440" cy="503280"/>
          </a:xfrm>
          <a:prstGeom prst="wedgeRectCallout">
            <a:avLst>
              <a:gd name="adj1" fmla="val 89231"/>
              <a:gd name="adj2" fmla="val 127453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致命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95280" y="5877000"/>
            <a:ext cx="1873080" cy="504720"/>
          </a:xfrm>
          <a:prstGeom prst="wedgeRectCallout">
            <a:avLst>
              <a:gd name="adj1" fmla="val 80143"/>
              <a:gd name="adj2" fmla="val -236518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轻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护理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i="1" lang="zh-CN" sz="3200" spc="-1" strike="noStrike">
                <a:solidFill>
                  <a:srgbClr val="009900"/>
                </a:solidFill>
                <a:latin typeface="Verdana"/>
                <a:ea typeface="宋体"/>
              </a:rPr>
              <a:t>现场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"/>
          <p:cNvSpPr/>
          <p:nvPr/>
        </p:nvSpPr>
        <p:spPr>
          <a:xfrm>
            <a:off x="1763640" y="1773360"/>
            <a:ext cx="6769080" cy="792000"/>
          </a:xfrm>
          <a:prstGeom prst="flowChartConnector">
            <a:avLst/>
          </a:prstGeom>
          <a:solidFill>
            <a:srgbClr val="ddddd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呼救、调度、急救是院前急救的出诊程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971640" y="1555200"/>
            <a:ext cx="792000" cy="1081080"/>
          </a:xfrm>
          <a:prstGeom prst="flowChartConnector">
            <a:avLst/>
          </a:prstGeom>
          <a:solidFill>
            <a:srgbClr val="ffccc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呼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3640" y="2924280"/>
            <a:ext cx="6769080" cy="792000"/>
          </a:xfrm>
          <a:prstGeom prst="flowChartConnector">
            <a:avLst/>
          </a:prstGeom>
          <a:solidFill>
            <a:srgbClr val="0099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使患者舒适，减少再损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971640" y="2778840"/>
            <a:ext cx="792000" cy="1081080"/>
          </a:xfrm>
          <a:prstGeom prst="flowChartConnector">
            <a:avLst/>
          </a:prstGeom>
          <a:solidFill>
            <a:srgbClr val="ffccc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3640" y="4076640"/>
            <a:ext cx="6769080" cy="792360"/>
          </a:xfrm>
          <a:prstGeom prst="flowChartConnector">
            <a:avLst/>
          </a:prstGeom>
          <a:solidFill>
            <a:srgbClr val="99669b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稳、准、轻、快、沉着冷静，安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763640" y="5229360"/>
            <a:ext cx="6769080" cy="792000"/>
          </a:xfrm>
          <a:prstGeom prst="flowChartConnector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按病情送往就近医院继续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971640" y="3933000"/>
            <a:ext cx="792000" cy="1079640"/>
          </a:xfrm>
          <a:prstGeom prst="flowChartConnector">
            <a:avLst/>
          </a:prstGeom>
          <a:solidFill>
            <a:srgbClr val="ffccc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971640" y="5083920"/>
            <a:ext cx="793800" cy="1081080"/>
          </a:xfrm>
          <a:prstGeom prst="flowChartConnector">
            <a:avLst/>
          </a:prstGeom>
          <a:solidFill>
            <a:srgbClr val="ffccc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1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6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1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6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护理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i="1" lang="zh-CN" sz="3200" spc="-1" strike="noStrike">
                <a:solidFill>
                  <a:srgbClr val="009900"/>
                </a:solidFill>
                <a:latin typeface="Verdana"/>
                <a:ea typeface="宋体"/>
              </a:rPr>
              <a:t>转运与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04920" y="2206440"/>
            <a:ext cx="5419440" cy="40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选择搬运工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把握转运时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联系送往地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保持患者生命体征的相对稳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患者交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6445080" y="3213000"/>
            <a:ext cx="2292480" cy="290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护理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i="1" lang="zh-CN" sz="3200" spc="-1" strike="noStrike">
                <a:solidFill>
                  <a:srgbClr val="009900"/>
                </a:solidFill>
                <a:latin typeface="Verdana"/>
                <a:ea typeface="宋体"/>
              </a:rPr>
              <a:t>转运与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755280" y="1989000"/>
            <a:ext cx="7777080" cy="36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担架：转运患者最常用的工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汽车：颠簸，晕车现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列车：时间长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飞机：上升和下降时气压有变化，噪音，颠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护理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i="1" lang="zh-CN" sz="3200" spc="-1" strike="noStrike">
                <a:solidFill>
                  <a:srgbClr val="009900"/>
                </a:solidFill>
                <a:latin typeface="Verdana"/>
                <a:ea typeface="宋体"/>
              </a:rPr>
              <a:t>转运与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755640" y="1917720"/>
            <a:ext cx="7632720" cy="35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转运途中加强生命支持性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脊椎受伤者，保持脊柱轴线稳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担架运送，头部在后，下肢在前，注意安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空运中，注意保温和湿化呼吸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救护车在上下坡、拐弯、停车调头时要防止颠簸，以免发生坠落，加重病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记录有关医疗文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灯片编号占位符 4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A3062-0265-4BE3-8FE6-11D00BEF20C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071720" y="285480"/>
            <a:ext cx="77040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灾害现场救护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" name="Line 3"/>
          <p:cNvSpPr/>
          <p:nvPr/>
        </p:nvSpPr>
        <p:spPr>
          <a:xfrm flipV="1">
            <a:off x="3492360" y="1628280"/>
            <a:ext cx="838440" cy="38124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" name="Line 4"/>
          <p:cNvSpPr/>
          <p:nvPr/>
        </p:nvSpPr>
        <p:spPr>
          <a:xfrm>
            <a:off x="3492360" y="2563920"/>
            <a:ext cx="838440" cy="38088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Oval 5"/>
          <p:cNvSpPr/>
          <p:nvPr/>
        </p:nvSpPr>
        <p:spPr>
          <a:xfrm>
            <a:off x="1260360" y="4076640"/>
            <a:ext cx="2286000" cy="1067040"/>
          </a:xfrm>
          <a:prstGeom prst="ellipse">
            <a:avLst/>
          </a:prstGeom>
          <a:solidFill>
            <a:srgbClr val="dddddd"/>
          </a:solidFill>
          <a:ln cap="sq"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Arial"/>
                <a:ea typeface="宋体"/>
              </a:rPr>
              <a:t>按原因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Oval 7"/>
          <p:cNvSpPr/>
          <p:nvPr/>
        </p:nvSpPr>
        <p:spPr>
          <a:xfrm>
            <a:off x="1187280" y="1701720"/>
            <a:ext cx="2286000" cy="1143000"/>
          </a:xfrm>
          <a:prstGeom prst="ellipse">
            <a:avLst/>
          </a:prstGeom>
          <a:solidFill>
            <a:srgbClr val="ccffcc"/>
          </a:solidFill>
          <a:ln cap="sq"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Arial"/>
                <a:ea typeface="宋体"/>
              </a:rPr>
              <a:t>灾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Line 8"/>
          <p:cNvSpPr/>
          <p:nvPr/>
        </p:nvSpPr>
        <p:spPr>
          <a:xfrm flipV="1">
            <a:off x="3708360" y="4149360"/>
            <a:ext cx="838080" cy="30492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7" name="Rectangle 9"/>
          <p:cNvSpPr/>
          <p:nvPr/>
        </p:nvSpPr>
        <p:spPr>
          <a:xfrm>
            <a:off x="4645080" y="3787920"/>
            <a:ext cx="2622600" cy="64764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自然灾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Line 10"/>
          <p:cNvSpPr/>
          <p:nvPr/>
        </p:nvSpPr>
        <p:spPr>
          <a:xfrm>
            <a:off x="3780000" y="4797360"/>
            <a:ext cx="838080" cy="38124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Rectangle 11"/>
          <p:cNvSpPr/>
          <p:nvPr/>
        </p:nvSpPr>
        <p:spPr>
          <a:xfrm>
            <a:off x="4645080" y="4797360"/>
            <a:ext cx="2663640" cy="66348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人为灾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0" name="Rectangle 14"/>
          <p:cNvSpPr/>
          <p:nvPr/>
        </p:nvSpPr>
        <p:spPr>
          <a:xfrm>
            <a:off x="4572000" y="1339920"/>
            <a:ext cx="2664000" cy="57780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  <a:ea typeface="宋体"/>
              </a:rPr>
              <a:t>天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Rectangle 15"/>
          <p:cNvSpPr/>
          <p:nvPr/>
        </p:nvSpPr>
        <p:spPr>
          <a:xfrm>
            <a:off x="4572000" y="2781360"/>
            <a:ext cx="2664000" cy="50328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生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Rectangle 16"/>
          <p:cNvSpPr/>
          <p:nvPr/>
        </p:nvSpPr>
        <p:spPr>
          <a:xfrm>
            <a:off x="4572000" y="2133720"/>
            <a:ext cx="2664000" cy="50328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地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Line 17"/>
          <p:cNvSpPr/>
          <p:nvPr/>
        </p:nvSpPr>
        <p:spPr>
          <a:xfrm flipV="1">
            <a:off x="3564000" y="2276640"/>
            <a:ext cx="792000" cy="1872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灾害现场救护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i="1" lang="zh-CN" sz="3200" spc="-1" strike="noStrike">
                <a:solidFill>
                  <a:srgbClr val="009900"/>
                </a:solidFill>
                <a:latin typeface="Verdana"/>
                <a:ea typeface="宋体"/>
              </a:rPr>
              <a:t>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971640" y="2492280"/>
            <a:ext cx="6750000" cy="3386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1f1f1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612720" y="2205000"/>
            <a:ext cx="1584360" cy="3309840"/>
            <a:chOff x="612720" y="2205000"/>
            <a:chExt cx="1584360" cy="3309840"/>
          </a:xfrm>
        </p:grpSpPr>
        <p:sp>
          <p:nvSpPr>
            <p:cNvPr id="227" name=""/>
            <p:cNvSpPr/>
            <p:nvPr/>
          </p:nvSpPr>
          <p:spPr>
            <a:xfrm>
              <a:off x="612720" y="2205000"/>
              <a:ext cx="1584360" cy="3309840"/>
            </a:xfrm>
            <a:custGeom>
              <a:avLst/>
              <a:gdLst>
                <a:gd name="textAreaLeft" fmla="*/ 77040 w 1584360"/>
                <a:gd name="textAreaRight" fmla="*/ 1507320 w 1584360"/>
                <a:gd name="textAreaTop" fmla="*/ 77040 h 3309840"/>
                <a:gd name="textAreaBottom" fmla="*/ 3232800 h 3309840"/>
              </a:gdLst>
              <a:ahLst/>
              <a:rect l="textAreaLeft" t="textAreaTop" r="textAreaRight" b="textAreaBottom"/>
              <a:pathLst>
                <a:path w="21600" h="45119">
                  <a:moveTo>
                    <a:pt x="3600" y="0"/>
                  </a:moveTo>
                  <a:arcTo wR="3600" hR="3600" stAng="16200000" swAng="-5400000"/>
                  <a:lnTo>
                    <a:pt x="0" y="41519"/>
                  </a:lnTo>
                  <a:arcTo wR="3600" hR="3600" stAng="10800000" swAng="-5400000"/>
                  <a:lnTo>
                    <a:pt x="18000" y="4511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8ac8de"/>
            </a:solidFill>
            <a:ln w="381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78240" y="2243160"/>
              <a:ext cx="1454040" cy="457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8ac8d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突发性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2629080" y="2276640"/>
            <a:ext cx="1511280" cy="3310920"/>
            <a:chOff x="2629080" y="2276640"/>
            <a:chExt cx="1511280" cy="3310920"/>
          </a:xfrm>
        </p:grpSpPr>
        <p:sp>
          <p:nvSpPr>
            <p:cNvPr id="230" name=""/>
            <p:cNvSpPr/>
            <p:nvPr/>
          </p:nvSpPr>
          <p:spPr>
            <a:xfrm>
              <a:off x="2629080" y="2276640"/>
              <a:ext cx="1511280" cy="3310920"/>
            </a:xfrm>
            <a:custGeom>
              <a:avLst/>
              <a:gdLst>
                <a:gd name="textAreaLeft" fmla="*/ 73440 w 1511280"/>
                <a:gd name="textAreaRight" fmla="*/ 1437840 w 1511280"/>
                <a:gd name="textAreaTop" fmla="*/ 73440 h 3310920"/>
                <a:gd name="textAreaBottom" fmla="*/ 3237480 h 3310920"/>
              </a:gdLst>
              <a:ahLst/>
              <a:rect l="textAreaLeft" t="textAreaTop" r="textAreaRight" b="textAreaBottom"/>
              <a:pathLst>
                <a:path w="21600" h="47315">
                  <a:moveTo>
                    <a:pt x="3600" y="0"/>
                  </a:moveTo>
                  <a:arcTo wR="3600" hR="3600" stAng="16200000" swAng="-5400000"/>
                  <a:lnTo>
                    <a:pt x="0" y="43715"/>
                  </a:lnTo>
                  <a:arcTo wR="3600" hR="3600" stAng="10800000" swAng="-5400000"/>
                  <a:lnTo>
                    <a:pt x="18000" y="4731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669b"/>
            </a:solidFill>
            <a:ln w="381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688840" y="2314800"/>
              <a:ext cx="1387080" cy="457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9669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任务重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573440" y="2278080"/>
            <a:ext cx="1511280" cy="3309840"/>
            <a:chOff x="4573440" y="2278080"/>
            <a:chExt cx="1511280" cy="3309840"/>
          </a:xfrm>
        </p:grpSpPr>
        <p:sp>
          <p:nvSpPr>
            <p:cNvPr id="233" name=""/>
            <p:cNvSpPr/>
            <p:nvPr/>
          </p:nvSpPr>
          <p:spPr>
            <a:xfrm>
              <a:off x="4573440" y="2278080"/>
              <a:ext cx="1511280" cy="3309840"/>
            </a:xfrm>
            <a:custGeom>
              <a:avLst/>
              <a:gdLst>
                <a:gd name="textAreaLeft" fmla="*/ 73440 w 1511280"/>
                <a:gd name="textAreaRight" fmla="*/ 1437840 w 1511280"/>
                <a:gd name="textAreaTop" fmla="*/ 73440 h 3309840"/>
                <a:gd name="textAreaBottom" fmla="*/ 3236400 h 3309840"/>
              </a:gdLst>
              <a:ahLst/>
              <a:rect l="textAreaLeft" t="textAreaTop" r="textAreaRight" b="textAreaBottom"/>
              <a:pathLst>
                <a:path w="21600" h="47300">
                  <a:moveTo>
                    <a:pt x="3600" y="0"/>
                  </a:moveTo>
                  <a:arcTo wR="3600" hR="3600" stAng="16200000" swAng="-5400000"/>
                  <a:lnTo>
                    <a:pt x="0" y="43700"/>
                  </a:lnTo>
                  <a:arcTo wR="3600" hR="3600" stAng="10800000" swAng="-5400000"/>
                  <a:lnTo>
                    <a:pt x="18000" y="4730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d9269"/>
            </a:solidFill>
            <a:ln w="381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33200" y="2316240"/>
              <a:ext cx="1387080" cy="457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9669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条件差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35" name=""/>
          <p:cNvGrpSpPr/>
          <p:nvPr/>
        </p:nvGrpSpPr>
        <p:grpSpPr>
          <a:xfrm>
            <a:off x="6516720" y="2279520"/>
            <a:ext cx="1584360" cy="3309840"/>
            <a:chOff x="6516720" y="2279520"/>
            <a:chExt cx="1584360" cy="3309840"/>
          </a:xfrm>
        </p:grpSpPr>
        <p:sp>
          <p:nvSpPr>
            <p:cNvPr id="236" name=""/>
            <p:cNvSpPr/>
            <p:nvPr/>
          </p:nvSpPr>
          <p:spPr>
            <a:xfrm>
              <a:off x="6516720" y="2279520"/>
              <a:ext cx="1584360" cy="3309840"/>
            </a:xfrm>
            <a:custGeom>
              <a:avLst/>
              <a:gdLst>
                <a:gd name="textAreaLeft" fmla="*/ 77040 w 1584360"/>
                <a:gd name="textAreaRight" fmla="*/ 1507320 w 1584360"/>
                <a:gd name="textAreaTop" fmla="*/ 77040 h 3309840"/>
                <a:gd name="textAreaBottom" fmla="*/ 3232800 h 3309840"/>
              </a:gdLst>
              <a:ahLst/>
              <a:rect l="textAreaLeft" t="textAreaTop" r="textAreaRight" b="textAreaBottom"/>
              <a:pathLst>
                <a:path w="21600" h="45119">
                  <a:moveTo>
                    <a:pt x="3600" y="0"/>
                  </a:moveTo>
                  <a:arcTo wR="3600" hR="3600" stAng="16200000" swAng="-5400000"/>
                  <a:lnTo>
                    <a:pt x="0" y="41519"/>
                  </a:lnTo>
                  <a:arcTo wR="3600" hR="3600" stAng="10800000" swAng="-5400000"/>
                  <a:lnTo>
                    <a:pt x="18000" y="4511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9900"/>
            </a:solidFill>
            <a:ln w="381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579360" y="2317680"/>
              <a:ext cx="1454040" cy="457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9669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涉及广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38" name=""/>
          <p:cNvSpPr/>
          <p:nvPr/>
        </p:nvSpPr>
        <p:spPr>
          <a:xfrm>
            <a:off x="612720" y="3932280"/>
            <a:ext cx="76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不可预测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集体群伤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事发现场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系统工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目 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844720" y="1701720"/>
            <a:ext cx="395928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概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院前急救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灾害现场救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280"/>
            <a:chOff x="1819440" y="2219400"/>
            <a:chExt cx="688320" cy="59328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12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000"/>
            </a:xfrm>
            <a:prstGeom prst="hexagon">
              <a:avLst>
                <a:gd name="adj" fmla="val 29246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91160" y="2276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8ac8de"/>
              </a:gs>
              <a:gs pos="100000">
                <a:srgbClr val="405d67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03240" y="3749760"/>
            <a:ext cx="687240" cy="593280"/>
            <a:chOff x="1803240" y="3749760"/>
            <a:chExt cx="687240" cy="593280"/>
          </a:xfrm>
        </p:grpSpPr>
        <p:sp>
          <p:nvSpPr>
            <p:cNvPr id="116" name="AutoShape 12"/>
            <p:cNvSpPr/>
            <p:nvPr/>
          </p:nvSpPr>
          <p:spPr>
            <a:xfrm>
              <a:off x="1808640" y="375948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43200" y="3784680"/>
              <a:ext cx="599400" cy="513000"/>
            </a:xfrm>
            <a:prstGeom prst="hexagon">
              <a:avLst>
                <a:gd name="adj" fmla="val 29211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 Box 17"/>
          <p:cNvSpPr/>
          <p:nvPr/>
        </p:nvSpPr>
        <p:spPr>
          <a:xfrm>
            <a:off x="1973880" y="456876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灾害现场救护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i="1" lang="zh-CN" sz="3200" spc="-1" strike="noStrike">
                <a:solidFill>
                  <a:srgbClr val="009900"/>
                </a:solidFill>
                <a:latin typeface="Verdana"/>
                <a:ea typeface="宋体"/>
              </a:rPr>
              <a:t>常见灾害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" name=""/>
          <p:cNvSpPr/>
          <p:nvPr/>
        </p:nvSpPr>
        <p:spPr>
          <a:xfrm>
            <a:off x="3267000" y="1459080"/>
            <a:ext cx="2641680" cy="2644560"/>
          </a:xfrm>
          <a:prstGeom prst="ellipse">
            <a:avLst/>
          </a:prstGeom>
          <a:solidFill>
            <a:srgbClr val="99669b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地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195640" y="2781360"/>
            <a:ext cx="2644560" cy="2643120"/>
          </a:xfrm>
          <a:prstGeom prst="ellipse">
            <a:avLst/>
          </a:prstGeom>
          <a:solidFill>
            <a:srgbClr val="8ac8de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火灾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206960" y="2851200"/>
            <a:ext cx="2643120" cy="2643120"/>
          </a:xfrm>
          <a:prstGeom prst="ellipse">
            <a:avLst/>
          </a:prstGeom>
          <a:solidFill>
            <a:srgbClr val="969696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水灾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3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8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灾害现场救护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i="1" lang="zh-CN" sz="3200" spc="-1" strike="noStrike">
                <a:solidFill>
                  <a:srgbClr val="009900"/>
                </a:solidFill>
                <a:latin typeface="Verdana"/>
                <a:ea typeface="宋体"/>
              </a:rPr>
              <a:t>常见灾害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539640" y="1773360"/>
          <a:ext cx="8177040" cy="4055760"/>
        </p:xfrm>
        <a:graphic>
          <a:graphicData uri="http://schemas.openxmlformats.org/drawingml/2006/table">
            <a:tbl>
              <a:tblPr/>
              <a:tblGrid>
                <a:gridCol w="1666800"/>
                <a:gridCol w="2149560"/>
                <a:gridCol w="2224080"/>
                <a:gridCol w="2136600"/>
              </a:tblGrid>
              <a:tr h="738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地震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火灾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水灾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701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伤情特点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复合伤、挤压伤，合并休克或心肺功能衰竭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单纯烧伤和复合伤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外伤、骨折、挤压伤、掩埋、窒息、死亡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616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急救要点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保存生命，预防再损伤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安全脱离现场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防止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吸入性损伤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脱离危险区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，溺水、掩埋、外伤者救护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突发性公共卫生事件的救护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4920" y="1701360"/>
            <a:ext cx="861048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定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public emergency health events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是指突然发生，造成或者可能造成社会公众健康严重损害的重大传染疫情、群体性不明原因疾病、重大食物和食品安全危害等严重影响公众健康的事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突发性公共卫生事件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i="1" lang="zh-CN" sz="3200" spc="-1" strike="noStrike">
                <a:solidFill>
                  <a:srgbClr val="009900"/>
                </a:solidFill>
                <a:latin typeface="Verdana"/>
                <a:ea typeface="黑体"/>
              </a:rPr>
              <a:t>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4000" y="1412640"/>
            <a:ext cx="383508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成因的多样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分布的差异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传播的广泛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危害的复杂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治理的综合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5364000" y="2924280"/>
            <a:ext cx="3605400" cy="33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突发性公共卫生事件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i="1" lang="zh-CN" sz="3200" spc="-1" strike="noStrike">
                <a:solidFill>
                  <a:srgbClr val="009900"/>
                </a:solidFill>
                <a:latin typeface="Verdana"/>
                <a:ea typeface="黑体"/>
              </a:rPr>
              <a:t>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79280" y="1773000"/>
            <a:ext cx="3043440" cy="44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事件表现形式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事件成因和性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4356000" y="2276640"/>
            <a:ext cx="3816360" cy="825480"/>
          </a:xfrm>
          <a:prstGeom prst="rect">
            <a:avLst/>
          </a:prstGeom>
          <a:solidFill>
            <a:srgbClr val="ddddd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当环境危害因素达到规定预警值时形成的事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356000" y="1268280"/>
            <a:ext cx="3816360" cy="825480"/>
          </a:xfrm>
          <a:prstGeom prst="rect">
            <a:avLst/>
          </a:prstGeom>
          <a:solidFill>
            <a:srgbClr val="ffccc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当病例数累计达到规定预警值时所形成的事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4" name="Line 3"/>
          <p:cNvSpPr/>
          <p:nvPr/>
        </p:nvSpPr>
        <p:spPr>
          <a:xfrm flipV="1">
            <a:off x="2987640" y="1557000"/>
            <a:ext cx="936720" cy="307800"/>
          </a:xfrm>
          <a:prstGeom prst="line">
            <a:avLst/>
          </a:prstGeom>
          <a:ln cap="sq" w="12600">
            <a:solidFill>
              <a:srgbClr val="692aa2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5" name="Line 3"/>
          <p:cNvSpPr/>
          <p:nvPr/>
        </p:nvSpPr>
        <p:spPr>
          <a:xfrm>
            <a:off x="3060720" y="2205000"/>
            <a:ext cx="1006560" cy="503280"/>
          </a:xfrm>
          <a:prstGeom prst="line">
            <a:avLst/>
          </a:prstGeom>
          <a:ln cap="sq" w="12600">
            <a:solidFill>
              <a:srgbClr val="692aa2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6" name="AutoShape 7"/>
          <p:cNvSpPr/>
          <p:nvPr/>
        </p:nvSpPr>
        <p:spPr>
          <a:xfrm>
            <a:off x="4429080" y="3502080"/>
            <a:ext cx="4248360" cy="2590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344" y="5969"/>
                </a:moveTo>
                <a:lnTo>
                  <a:pt x="-387" y="952"/>
                </a:lnTo>
              </a:path>
              <a:path w="21600" h="21600">
                <a:moveTo>
                  <a:pt x="-387" y="0"/>
                </a:moveTo>
                <a:lnTo>
                  <a:pt x="-387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重大传染病疫情，群体性不明原因的疾病，食品安全和职业危害，新发传染性疾病，群体性预防接种反应和群体性药物反应，重大环境污染事故，核事故和放射事故，自然灾害等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8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种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突发性公共卫生事件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i="1" lang="zh-CN" sz="3200" spc="-1" strike="noStrike">
                <a:solidFill>
                  <a:srgbClr val="009900"/>
                </a:solidFill>
                <a:latin typeface="Verdana"/>
                <a:ea typeface="黑体"/>
              </a:rPr>
              <a:t>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8" name=""/>
          <p:cNvSpPr/>
          <p:nvPr/>
        </p:nvSpPr>
        <p:spPr>
          <a:xfrm>
            <a:off x="2987640" y="1773360"/>
            <a:ext cx="720720" cy="3671640"/>
          </a:xfrm>
          <a:custGeom>
            <a:avLst/>
            <a:gdLst>
              <a:gd name="textAreaLeft" fmla="*/ 460440 w 720720"/>
              <a:gd name="textAreaRight" fmla="*/ 721080 w 720720"/>
              <a:gd name="textAreaTop" fmla="*/ 95760 h 3671640"/>
              <a:gd name="textAreaBottom" fmla="*/ 3575880 h 3671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4716360" y="1557360"/>
            <a:ext cx="3240360" cy="863640"/>
          </a:xfrm>
          <a:prstGeom prst="flowChartTerminator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特别重大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Ⅰ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级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716360" y="2637000"/>
            <a:ext cx="3240360" cy="865080"/>
          </a:xfrm>
          <a:prstGeom prst="flowChartTerminator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重大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Ⅱ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级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716360" y="3718080"/>
            <a:ext cx="3240360" cy="863280"/>
          </a:xfrm>
          <a:prstGeom prst="flowChartTerminator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较大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Ⅲ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级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716360" y="4797360"/>
            <a:ext cx="3240360" cy="863640"/>
          </a:xfrm>
          <a:prstGeom prst="flowChartTerminator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一般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Ⅳ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级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11280" y="2781360"/>
            <a:ext cx="2160360" cy="1728720"/>
          </a:xfrm>
          <a:prstGeom prst="flowChartProcess">
            <a:avLst/>
          </a:prstGeom>
          <a:solidFill>
            <a:srgbClr val="99669b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医疗卫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救援分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突发性公共卫生事件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i="1" lang="zh-CN" sz="3200" spc="-1" strike="noStrike">
                <a:solidFill>
                  <a:srgbClr val="009900"/>
                </a:solidFill>
                <a:latin typeface="Verdana"/>
                <a:ea typeface="黑体"/>
              </a:rPr>
              <a:t>救护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11280" y="1701720"/>
            <a:ext cx="7921440" cy="454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统一指挥，共同协调是其关键原则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检伤分类原则是将有限的急救服务优先给予急需救护的人，达到群体急救的最佳效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Verdana"/>
                <a:ea typeface="宋体"/>
              </a:rPr>
              <a:t>就地抢救原则是指在灾难发生地组织抢救、不等不靠、不盲目转院，经初步处理待病情稳定后再有计划、有目的疏散及转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实行谁救治谁负责的原则，减少因相互推诿影响急救效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突发性公共卫生事件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i="1" lang="zh-CN" sz="2800" spc="-1" strike="noStrike">
                <a:solidFill>
                  <a:srgbClr val="009900"/>
                </a:solidFill>
                <a:latin typeface="Verdana"/>
                <a:ea typeface="黑体"/>
              </a:rPr>
              <a:t>救护要点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 flipV="1" rot="10800000">
            <a:off x="1114560" y="1555920"/>
            <a:ext cx="6410160" cy="576000"/>
          </a:xfrm>
          <a:prstGeom prst="flowChartAlternateProcess">
            <a:avLst/>
          </a:prstGeom>
          <a:solidFill>
            <a:srgbClr val="ffccc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有计划、有步骤地抢救受伤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 flipV="1" rot="10800000">
            <a:off x="1114560" y="2348280"/>
            <a:ext cx="6410160" cy="1079640"/>
          </a:xfrm>
          <a:prstGeom prst="flowChartAlternateProcess">
            <a:avLst/>
          </a:prstGeom>
          <a:solidFill>
            <a:srgbClr val="dddddd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Arial"/>
                <a:ea typeface="宋体"/>
              </a:rPr>
              <a:t>因事、因人、因病情而异，采取不同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Arial"/>
                <a:ea typeface="宋体"/>
              </a:rPr>
              <a:t>救护措施，确保现场救护效果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 rot="10800000">
            <a:off x="1116000" y="3645000"/>
            <a:ext cx="6408720" cy="574560"/>
          </a:xfrm>
          <a:prstGeom prst="flowChartAlternateProcess">
            <a:avLst/>
          </a:prstGeom>
          <a:solidFill>
            <a:srgbClr val="99669b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救护过程中防止再损伤的发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V="1" rot="10800000">
            <a:off x="1116000" y="4435920"/>
            <a:ext cx="6408720" cy="576360"/>
          </a:xfrm>
          <a:prstGeom prst="flowChartAlternateProcess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发挥团队力量实施救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V="1" rot="10800000">
            <a:off x="1116000" y="5229360"/>
            <a:ext cx="6408720" cy="576000"/>
          </a:xfrm>
          <a:prstGeom prst="flowChartAlternateProcess">
            <a:avLst/>
          </a:prstGeom>
          <a:solidFill>
            <a:srgbClr val="ddb523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Arial"/>
                <a:ea typeface="宋体"/>
              </a:rPr>
              <a:t>灾后引起的心理问题不容忽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思考题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260000" y="2133720"/>
            <a:ext cx="7201080" cy="30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院前急救为什么强调全民参与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现场急救护士最主要的工作职责是什么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你如何理解灾后心理重建问题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1908000" y="2349360"/>
            <a:ext cx="5166000" cy="2060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ln w="9360">
                  <a:solidFill>
                    <a:srgbClr val="99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黑体"/>
              </a:rPr>
              <a:t>谢谢聆听！</a:t>
            </a:r>
            <a:endParaRPr b="1" lang="en-US" sz="8000" spc="-1" strike="noStrike">
              <a:ln w="9360">
                <a:solidFill>
                  <a:srgbClr val="99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4" dur="2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50920" y="1701360"/>
            <a:ext cx="86104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描述院前急救的概念、原则及救护要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遵循院前急救原则实施现场救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B2B75-0080-4A64-954E-10ABE71E667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763640" y="4221000"/>
            <a:ext cx="2306880" cy="18781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5580000" y="3284640"/>
            <a:ext cx="3049560" cy="30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案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8DA09-326C-45FB-8522-3429D86C1CA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11280" y="1774800"/>
            <a:ext cx="7993080" cy="1654200"/>
          </a:xfrm>
          <a:prstGeom prst="flowChartAlternateProcess">
            <a:avLst/>
          </a:prstGeom>
          <a:solidFill>
            <a:srgbClr val="ddddd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清晨，广场中有一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男性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4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岁，突感心前区憋闷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有严重的窒息感，伴恶心、呕吐及出冷汗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......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403280" y="3789360"/>
            <a:ext cx="6481800" cy="1655640"/>
          </a:xfrm>
          <a:prstGeom prst="flowChartAlternateProcess">
            <a:avLst/>
          </a:prstGeom>
          <a:solidFill>
            <a:srgbClr val="ffccff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问题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最可能的医疗诊断是什么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如果你在现场当如何处理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04C78-6D0D-472B-836E-1D659F64EE4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黑体"/>
              </a:rPr>
              <a:t>院前急救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黑体"/>
              </a:rPr>
              <a:t>定义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黑体"/>
              </a:rPr>
              <a:t>: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prehospital emergency care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是指在医院之外的环境中对各种危及生命的急症、创伤、中毒、灾难事故等患者在到达医院之前进行的紧急医疗救护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84981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自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80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年代后期发展较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社会化、专业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一体化模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055B6-2861-472C-9060-45D48713E3E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4284720" y="3141720"/>
            <a:ext cx="46497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84981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现场救治条件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2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A8558-C049-4916-B349-272B0208DE9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AutoShape 7"/>
          <p:cNvSpPr/>
          <p:nvPr/>
        </p:nvSpPr>
        <p:spPr>
          <a:xfrm>
            <a:off x="6227640" y="2060640"/>
            <a:ext cx="2305080" cy="3527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3581" y="2890"/>
                </a:moveTo>
                <a:lnTo>
                  <a:pt x="-714" y="700"/>
                </a:lnTo>
              </a:path>
              <a:path w="21600" h="21600">
                <a:moveTo>
                  <a:pt x="-714" y="0"/>
                </a:moveTo>
                <a:lnTo>
                  <a:pt x="-714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病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史不详，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缺乏客观资料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急救人员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及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设备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有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现场环境恶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Oval 6"/>
          <p:cNvSpPr/>
          <p:nvPr/>
        </p:nvSpPr>
        <p:spPr>
          <a:xfrm>
            <a:off x="1258920" y="3178080"/>
            <a:ext cx="2286000" cy="1143000"/>
          </a:xfrm>
          <a:prstGeom prst="ellipse">
            <a:avLst/>
          </a:prstGeom>
          <a:solidFill>
            <a:srgbClr val="ccccff"/>
          </a:solidFill>
          <a:ln cap="sq"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机构职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Oval 7"/>
          <p:cNvSpPr/>
          <p:nvPr/>
        </p:nvSpPr>
        <p:spPr>
          <a:xfrm>
            <a:off x="1187280" y="4581360"/>
            <a:ext cx="2286000" cy="1143000"/>
          </a:xfrm>
          <a:prstGeom prst="ellipse">
            <a:avLst/>
          </a:prstGeom>
          <a:solidFill>
            <a:srgbClr val="ccffcc"/>
          </a:solidFill>
          <a:ln cap="sq"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个人职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"/>
          <p:cNvSpPr/>
          <p:nvPr/>
        </p:nvSpPr>
        <p:spPr>
          <a:xfrm>
            <a:off x="457200" y="1600200"/>
            <a:ext cx="5499000" cy="4495680"/>
          </a:xfrm>
          <a:prstGeom prst="rightArrow">
            <a:avLst>
              <a:gd name="adj1" fmla="val 79306"/>
              <a:gd name="adj2" fmla="val 30296"/>
            </a:avLst>
          </a:prstGeom>
          <a:gradFill rotWithShape="0">
            <a:gsLst>
              <a:gs pos="0">
                <a:srgbClr val="8ac8de"/>
              </a:gs>
              <a:gs pos="100000">
                <a:srgbClr val="fefefe">
                  <a:alpha val="24313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6172200" y="2209680"/>
            <a:ext cx="2285640" cy="3309840"/>
            <a:chOff x="6172200" y="2209680"/>
            <a:chExt cx="2285640" cy="3309840"/>
          </a:xfrm>
        </p:grpSpPr>
        <p:sp>
          <p:nvSpPr>
            <p:cNvPr id="149" name=""/>
            <p:cNvSpPr/>
            <p:nvPr/>
          </p:nvSpPr>
          <p:spPr>
            <a:xfrm>
              <a:off x="6172200" y="2209680"/>
              <a:ext cx="2285640" cy="3309840"/>
            </a:xfrm>
            <a:custGeom>
              <a:avLst/>
              <a:gdLst>
                <a:gd name="textAreaLeft" fmla="*/ 111240 w 2285640"/>
                <a:gd name="textAreaRight" fmla="*/ 2174400 w 2285640"/>
                <a:gd name="textAreaTop" fmla="*/ 111240 h 3309840"/>
                <a:gd name="textAreaBottom" fmla="*/ 3198600 h 3309840"/>
              </a:gdLst>
              <a:ahLst/>
              <a:rect l="textAreaLeft" t="textAreaTop" r="textAreaRight" b="textAreaBottom"/>
              <a:pathLst>
                <a:path w="21600" h="31277">
                  <a:moveTo>
                    <a:pt x="3600" y="0"/>
                  </a:moveTo>
                  <a:arcTo wR="3600" hR="3600" stAng="16200000" swAng="-5400000"/>
                  <a:lnTo>
                    <a:pt x="0" y="27677"/>
                  </a:lnTo>
                  <a:arcTo wR="3600" hR="3600" stAng="10800000" swAng="-5400000"/>
                  <a:lnTo>
                    <a:pt x="18000" y="3127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669b"/>
            </a:solidFill>
            <a:ln w="381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266880" y="2247840"/>
              <a:ext cx="2098080" cy="457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9669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2209680"/>
            <a:ext cx="403884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99669b"/>
              </a:gs>
              <a:gs pos="100000">
                <a:srgbClr val="b793b8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专业知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09480" y="3352680"/>
            <a:ext cx="403884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969696"/>
              </a:gs>
              <a:gs pos="100000">
                <a:srgbClr val="b4b4b4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操作技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4495680"/>
            <a:ext cx="403884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ddb523"/>
              </a:gs>
              <a:gs pos="100000">
                <a:srgbClr val="e6ca65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服务态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445080" y="3573360"/>
            <a:ext cx="17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急救护士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1003320" y="1749600"/>
            <a:ext cx="678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宋体"/>
              </a:rPr>
              <a:t>院前急救原则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940360" y="2924280"/>
            <a:ext cx="2273400" cy="2111400"/>
          </a:xfrm>
          <a:custGeom>
            <a:avLst/>
            <a:gdLst>
              <a:gd name="textAreaLeft" fmla="*/ 0 w 2273400"/>
              <a:gd name="textAreaRight" fmla="*/ 2273760 w 2273400"/>
              <a:gd name="textAreaTop" fmla="*/ 0 h 2111400"/>
              <a:gd name="textAreaBottom" fmla="*/ 2111760 h 2111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9669b"/>
          </a:solidFill>
          <a:ln w="0">
            <a:noFill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251240" y="2922480"/>
            <a:ext cx="2273400" cy="2111400"/>
          </a:xfrm>
          <a:custGeom>
            <a:avLst/>
            <a:gdLst>
              <a:gd name="textAreaLeft" fmla="*/ 0 w 2273400"/>
              <a:gd name="textAreaRight" fmla="*/ 2273760 w 2273400"/>
              <a:gd name="textAreaTop" fmla="*/ 0 h 2111400"/>
              <a:gd name="textAreaBottom" fmla="*/ 2111760 h 2111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f5f5f5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484360" y="2925720"/>
            <a:ext cx="2376720" cy="2111400"/>
          </a:xfrm>
          <a:custGeom>
            <a:avLst/>
            <a:gdLst>
              <a:gd name="textAreaLeft" fmla="*/ 0 w 2376720"/>
              <a:gd name="textAreaRight" fmla="*/ 2377080 w 2376720"/>
              <a:gd name="textAreaTop" fmla="*/ 0 h 2111400"/>
              <a:gd name="textAreaBottom" fmla="*/ 2111760 h 2111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8ac8de"/>
            </a:solidFill>
            <a:miter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990720" y="2924280"/>
            <a:ext cx="2081160" cy="2133360"/>
          </a:xfrm>
          <a:custGeom>
            <a:avLst/>
            <a:gdLst>
              <a:gd name="textAreaLeft" fmla="*/ 0 w 2081160"/>
              <a:gd name="textAreaRight" fmla="*/ 2081520 w 2081160"/>
              <a:gd name="textAreaTop" fmla="*/ 0 h 2133360"/>
              <a:gd name="textAreaBottom" fmla="*/ 2133720 h 2133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46466a"/>
              </a:gs>
              <a:gs pos="100000">
                <a:srgbClr val="666699"/>
              </a:gs>
            </a:gsLst>
            <a:lin ang="13500000"/>
          </a:gradFill>
          <a:ln w="0">
            <a:noFill/>
          </a:ln>
          <a:effectLst>
            <a:outerShdw dist="52300" dir="4563564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116000" y="3573360"/>
            <a:ext cx="136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先排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后救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861080" y="3502080"/>
            <a:ext cx="160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先救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后运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445080" y="3500280"/>
            <a:ext cx="1727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急救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呼救并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987640" y="3502080"/>
            <a:ext cx="1603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先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重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后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轻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cp:keywords/>
  <dc:language>en-US</dc:language>
  <cp:lastModifiedBy>微软用户</cp:lastModifiedBy>
  <dcterms:modified xsi:type="dcterms:W3CDTF">2015-08-30T18:28:58Z</dcterms:modified>
  <cp:revision>40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